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324-89F5-40F8-88F9-45046E03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D61-FFDC-4F69-A5F2-F2D29F28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B6A-A71F-45FE-A5E1-A979551B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13E0-ABC9-4ECE-ABBE-C1455A54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F6D-B7D4-48D3-9C14-631E2FFC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5F8-490A-4FF9-8168-D35EFDA3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F48-DEB8-4764-B888-7C8F0DB5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666-BA88-47DA-AFF6-741AF678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828-3855-4892-8025-23845EFF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57D-AB08-4675-B22B-5C438AC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0DA-1FD4-4A49-B070-5FB7CA76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95E-DBC7-4DBC-A1C4-4523659E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D37F-7CC2-4859-9D5F-75A2F979E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6 Anjeli raz z výšin n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njeli raz z výšin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tú niesť sa náhli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udský údel sám na s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al Syn Boží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 Bohu na výsosti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ľuďom na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m z neba žiaria strá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evom kraj sa napln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Pán Boh sľuby dan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mu ľudu vypln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 Bohu na výsosti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ľuďom na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cieľu viedla hviezda jas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ch, čo Písmo skúm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lnila sa nádej spás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k jasliam skláňa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 Bohu na výsosti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ľuďom na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meon i Anna žas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lnil sa im žitia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a Boha za zvesť krásnu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rodil sa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 Bohu na výsosti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ľuďom na zem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15:21Z</dcterms:modified>
  <cp:revision>32</cp:revision>
  <dc:subject/>
  <dc:title>Je veľký náš Pán, on slávy je Kráľ Nech do všetkých strán  spev vrúcnych znie chvál.</dc:title>
</cp:coreProperties>
</file>